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E38-A61F-44D4-A5B4-37CB7AB2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2CA-8889-49EA-94E7-7F49C58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65F9C-9126-44B7-B4B3-5546A8E7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2BC5D-644D-4F15-B92F-4521ABEA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80C46-A577-438B-BC4C-1E178C81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B7BD5-B04F-4301-B7DF-7652149F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04FEC-A26F-4B42-AE24-ADD7637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D1BA6-9EFE-4260-860B-4064226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18A0E-684F-434E-895F-39AF5F8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6E7F9-4EB5-4B3B-B5DE-62DB3022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18958-577B-4F5A-85A8-2D79F371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1363F-BD08-4C69-BA90-114919A3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297-2EEB-4592-AEC0-91EF3DEF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BC484-30BA-42A1-9DC1-E084CD5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BCE86-8E1F-4625-83DE-68A6DE60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041F-E7B8-4828-9203-D561E115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9DB76-E266-47A1-B614-97DD6CF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42999-CA40-43F1-85F0-752CF84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EF823-4BC3-4FB2-A2BE-17BDB86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2D53A-1AD2-4261-A70C-C32A19DE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E9591-7216-4353-9E8C-3463F81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A398D-4622-40DB-9444-3DC9433C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43875-47AD-4AB5-AE6E-AD5274E5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2DA-0E9B-46EE-882E-1714FC41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994B6-FE59-4689-8DDE-76D75A8D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C3615-0A41-4E03-B298-3CF39F9A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4DACA-B25A-49CD-9A59-B4B3FE31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5E755-0B66-4A79-B8BF-A7AF85B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3E7E-5C95-4835-BC33-DF5A49ED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470C3-AAFD-4704-88BC-B22678DA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07CC-8EF5-4DE6-82C7-F880E035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865BC-BA0F-4793-8D27-A9FEF67E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BFAB4-6B37-4521-976E-583D813C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46683-1E98-4267-B9C5-D74D5BD3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D76A-1A30-4AA7-8BE2-118C292D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F188D-D8C7-4E68-A887-C9CCF83A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F69DD-020F-41DC-9830-C5C08286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12086-C1AA-4DE4-9D74-179933E1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F2213-C994-4EDA-9E5D-9C7885A7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28458-D9E6-4565-AFBB-6498AEE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AD835-EDA4-4FCB-8D93-4651718D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99567-C3B3-46EE-A655-A735DF04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A4AED-4E84-4ED1-9F75-C78F7EF1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86D12-626B-44C4-B26B-4D354040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921ED-603D-4AE1-8395-1B4464F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51FE-954A-4D76-BE52-1B757F87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2C8B6-41AB-4E3B-ADA4-032CA8B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93D02-940A-4FDB-9EDF-201F32F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A886-1EE9-4FA6-9D66-C0D0A8F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0ABDA-292B-4C1C-BAAC-8A59AD5C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E3077-5E02-46CC-816F-1DA8E791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B2947-0FBD-4781-8A92-4D133BFB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A01C0-0713-4E2F-9DDF-6DB9B9EB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EC497-F1EC-4E66-B63B-D91C2B95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C6633-1952-49F8-A8B6-F2F4B03A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EBB9F-AE1E-4F84-9787-4AA6B698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FA3-C542-49FF-B316-2A543328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75051-BF31-48A8-9FFC-40656F56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48247-7B18-400E-BF95-85F264F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A26B1-8C6D-44F4-B883-3B1916B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12AF3-7862-4124-8A46-7865F808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26A54-B6E0-4CD3-9422-7E4E0AD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4C656-DED0-4F26-9C31-4B757572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F58F1-6033-49E3-A2DA-F503CC28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A31BF-40D9-4FEF-A293-9D5DE4CD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6D484-DFA6-440A-BD55-2C23AFE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EF5D1-A9D1-4405-A052-1DA7B89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1115-A01D-457A-BB3F-8341A5BE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2F5E9-9FE8-44C7-8BCE-A56C675E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10D6D-21D6-48BA-BC69-C5EC84BB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AAFA4-DEC7-4820-B23D-FC97BEB2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1D9D2-5E10-4D3B-9BB0-DF56296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D442C-59BB-4FD9-8849-B0DE2D8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29BB4-124D-4263-A051-1F07F6C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4E372-66CD-4593-B4C1-4D0910A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84147-4231-4693-BCF5-CFA9FC95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F0300-86D2-4455-A02F-F00C3E56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4315A-843C-4A3E-A8DA-A5445058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A872-668D-4326-8171-648BC338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8BA12-932B-43AA-BFFD-74526E77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1A709-C79D-42C6-B350-87A41A82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BD644-33B4-46C3-B851-19BBF1CB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DD30B-A37D-41DC-877C-4910E710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BFFCF-CEF3-4FD5-A80A-526CD9BC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46310-58EF-472B-988A-727D6BE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6779D-6775-4E71-9E27-916D117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A296A-EAFA-4E8A-B196-17298EB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AE80A-1017-47FE-85E6-80FCD7C1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96888-8F17-4253-92AE-F4B139C6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8DD-3C5E-4865-B701-177511DA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E5592-D8A7-4E35-8D27-CBFCAA2D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5E887-E9A9-47E6-A9D5-A2CD9B72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34D0C-2740-432E-AE0D-65CF5DD6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DC6CF-12B2-4C12-B46F-800955B0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0DB2A-0046-4444-AE5E-8B97C6C8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3AB25-A205-4FB6-9CAA-EA2BEB24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C6D79-4034-45DE-9F1B-DEAE89C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DFCB8-897E-4915-90E0-477790FD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7419E-85C9-4F9D-81D1-BA880FD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EE450-36D9-4174-8A22-D23250EE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6041-D270-4305-A479-8F109AB0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31408-BC65-4B7C-BE12-6432CDF8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A54C95-9CBD-46BF-826B-0473D13D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6156D-576C-4380-A7C9-4069EE88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8D075-AB54-4051-B530-7B5A15E3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FDEDA-5617-494B-B9A8-447BEEEB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370B7E-782E-404F-83DD-FA98582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8FD80-02C4-4F1B-ACF1-23907B2D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C7B7D-59F7-459F-9DBE-23542E33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0F08D-691E-4042-AB0A-E1BC280E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0547A-D345-4B5E-B5CC-C67C9042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A4F-9CEC-4CC8-B03B-2CDF1C71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2E41-1843-41D6-8C93-95D9DDA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9DC7F-EBD9-446A-8368-054703B4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9FC55-1937-44F2-A485-8CC1FC0B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2B651-2EA1-4F18-9B07-28B0116B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192AF-02E5-489B-A951-DB71B451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DFC6F-DBA8-4229-A287-64BB5829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A344C-9290-4FD4-B486-28FC2BB8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8FA2A-C777-4A21-A0DB-E0F30789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53541-5FE4-4DEF-B1CE-4F17F17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3CA58-63EB-4A94-940C-C7DD869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17F6F-B478-47BA-B21D-0084BF6F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3A47-4498-4407-89B2-053582E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51431-1693-4EAC-948B-9B2E1CC4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150EC-06D5-43B4-843E-B35A739F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56417-4672-4593-9ACE-F0E83C4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B6913E-E99F-400D-BBA5-4455B5B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FC48F-7574-44ED-8AF5-B43DABD2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78D7B-DE12-41C6-BB09-54CF3232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83F08-7A55-46D2-99B2-45747060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96FE3-370D-4197-9A89-5DDF52FB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2CB07-6695-48C2-B781-145C0A3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E4FD6-4A90-45ED-BCCF-20358E40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8554-BD77-4FDF-88BF-67195C16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16786-46DB-43CC-81E1-EACAED22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61234-63F9-4376-9BF1-EC87BD65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3885F-E7BD-446F-8288-9949B360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1D3451-0E5A-4C00-B4EB-782515C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3A601-DB9E-464A-BBDA-B9B7AD9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6A738-FEBD-4351-8606-1315E96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F12AC-C698-41F4-A994-3A471AE9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019CA-C73E-4938-BB3A-570717D1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D08E8-6D18-4A88-9C6D-CC0D0E15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015EF-5AA1-4FC0-88D2-1592A048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6314-141C-4DB5-9890-831AC8C6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B8CEC-C0E6-4D38-AEF1-CD62AAD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3D5B7-C661-4B98-93EB-5623C20B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7C3A5-BB04-41B3-BC91-AF8E9635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7CF779-B460-4538-8F0C-B5DB6ED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A3924-3909-425F-AF8F-4D68079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AD411-EF60-46EC-8E7A-9545BB30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9998B-E54E-41D3-8E04-48DA1AB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CD07C-C0C5-47B5-A31B-4B862BD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5242A-228C-4C44-8611-32953834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B66E8A-C74C-4831-9565-BD1FDE53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A5C6-B788-492B-BF00-572BD899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77CBC-B86A-4741-AA28-698A2291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902856-3741-4013-B955-981A8644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4C6756-015A-491C-8202-A5A0754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1CAA6C-8A3F-47E8-BDBC-406F9C32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7164D-ADCB-462D-89A7-E1F720F0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63C61-1106-4DB7-8C63-DF573564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624B15-E960-4DB2-A1D8-0CE6C292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4A771-61BC-4D13-B89F-9CA6C0E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86461-4637-4A36-B666-C96C3A6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36EDE-5A91-4C2A-8604-15BFBD5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41AC-7AC8-4672-99FE-2B06A044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E877D-2B84-4DC2-9A16-39BD4E81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B5359-DDD1-48EE-830B-32085D8E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0EEA0-D6AD-476C-A5D8-A2357649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010D-40E2-4E23-AAE8-35FD16B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F26B-DC88-457D-9B71-7FE540CC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2D33-E902-4A6A-AC55-2089105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77D9-D7C9-48A4-894D-5611D0A7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81E-0E25-476B-9A7B-437F8D6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7E79-F091-4111-90DE-1FD1B8B4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856D-5DF3-4F7C-9AA9-1A3AE721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05BE-D879-4B46-AD96-5DD800B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5CAB-6702-4B65-91F0-3565E75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450E-2547-4A7E-81D5-2DDA3B6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D7A9-9016-48EF-972D-4FF46299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479F-C1EF-4985-80A7-744153D0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B637-B987-4D5C-A090-13D0E871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1B13-9F78-4D20-AB06-13375FCA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B371-387C-4026-BE3C-E549E786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811-AE1C-4E9A-9F1C-F24ECA08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EB4A-4E37-4299-889E-720BAADA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D960-F36E-4F62-994F-F88EFF54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1F7E-58E4-457E-978D-139B9F7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45D7-9673-4EC8-B009-15B8EC48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04C5E-1839-4589-A950-986D094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A4C0-360B-46EC-B159-F4C4A3B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B3B1-2962-47A0-A23D-68AEDAE1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F9D7-12C9-4595-A435-0ECE97A0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7AFC-FA9B-4C8A-9591-B01C6C89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B1A9E-EF44-461E-AA62-7650F75C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A7A-1D20-41BC-A002-6DA81C98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AB9C-27BC-48D8-8D47-E2D006F5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4D6D6-17D0-4AA5-AFE2-0E38CD0E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923CC-DC20-4635-998B-32719EED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E09A-F27B-41B5-A300-3631C55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71A75-EC19-4D14-9E99-02540BA3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A7DA-F3A3-4F36-A320-76CAD9E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8263-6917-4893-A8E5-355297E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71B8F-684D-4FCD-BF7D-AD6C6F9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E58E-2D7B-4E3F-B025-E66DED9B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3EB2-910D-4C15-BB9B-43C7D4F3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F7F-F7E9-48B2-A531-7C4FC4D6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6388-990B-4868-A082-6AF79A71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E2A9E-7582-4990-8450-B1C9D641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96AD8-1799-4096-9502-20CA1010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33645-96D7-476F-8FA0-1AEA4701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7CDB-2249-4528-BF38-ED11395F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4A73-2F84-4E77-B4B1-318DA327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7CF64-6B18-444E-8B51-B6CAE752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00F98-2642-4252-8716-21AB3E4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EA30-D544-4A3D-921A-B9BCD18A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23C58-B750-4BC0-BE8E-8D436CC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65B-C637-4EA6-83C3-B9EDA38E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83DA-B877-4350-B188-8698C43B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5D342-A067-4A86-9BBB-D4C37B8D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9523-DEB3-445B-B40A-C96B91B1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04DA-7146-40DC-8FD5-08DCD2E4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C228-B065-49C4-8DBA-EEA3136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9DBC5-BDB7-44B3-8204-F5A406C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C179-7435-401C-BB8D-AFD26B31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FFB5B-DF06-47C0-BDD3-D7B195E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9194-16CA-4092-906C-E2672506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AC8DF-DE2C-48BF-97FF-FD0D23A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D60-ACF8-46DB-A53E-D100807A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F0B7-D23F-4D4B-8D5E-8936F761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2F44-EB32-4E13-852A-A8389A3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28A2-C9C3-4C71-9699-7E6027EE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032E4-F471-4AC1-810A-2CA888D4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DFD57-854B-4E72-9718-5E770D90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85BA7-800C-4B85-BCA4-99F90DA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049E6-BFC7-4F78-A1A9-17254858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CC330-B08F-49B0-96C3-CEE915B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5770D-C080-488D-AD01-24A18561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E09B-43C9-422F-BECD-2FBB0663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DD2-3F38-4AA5-AEE7-069DA03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C3647-E556-4ADE-AA4E-AC7EA870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DF8E-59FD-4F59-B123-BB604E8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475FB-5176-4F93-B06E-B6AE72A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DDE78-B288-4877-9EC0-CB7E45A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FBA82-63D9-4585-98F7-F7932ADB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999D8-A525-498F-9E36-B88D6169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F84D4-3530-4BB4-A7C6-38C7D855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9170C-0260-4AC6-9D9C-5B5402CE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DF1C9-68A6-4277-969D-C5468E98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7F3AD-02B2-443C-96FC-E72245D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505-E64A-4C71-B14F-9B445C02CB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DECC-CD9E-401F-B4A4-B5941ECEE5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17FE-8F19-462F-8F42-9F34D81EA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8FC1-6F8E-4F0F-9E17-CFF892018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3B5-3BAC-4DBD-A1DD-F11E3568BE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832B-3D5C-47EE-B92D-C4C2F58B38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FE60-98CA-4A8E-B174-4CABC399C7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E0E-D453-4747-B357-698BCA0BF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7B3C-0AA2-4979-851D-FB3F40C95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ABD5-31FB-41D7-8177-39B594384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4081-0C42-42A9-B1CB-6437319B3B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37C2-087E-489F-A627-E1351D235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E7E3-9D6B-4EB4-9AEB-3959D079FA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ADE-3257-44BE-B36E-A967C6D41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E56-9365-4F03-BC7B-63E9D573F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20F9-FD6F-4B81-85EE-F99582BE9E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3123-9E35-4B7B-8C49-2C5C694D6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7448-C522-4BC3-BC7B-E454390B4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074-45AE-496C-BF33-8DDE6AC88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41D-7312-43BB-8D55-64DFBBFA13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41F2-E550-487B-9682-765495EAC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B9A-106C-48F3-9458-0FF063AB51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8673-B239-4C38-B09F-6ABD22ACBF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035-5A9E-4F46-9CA3-401460620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9FD-E134-4998-9F2A-67A41D715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E481-A0D0-482C-8A3E-71BB56902E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959-9510-4F88-B0CB-503EAAE048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927A-1F65-4D8C-8E71-7CD87302A0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A7E2-CA08-44FF-ABAB-80F13F662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A66F-CC08-4C11-B0D5-31ECFCC53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9D17-0726-4237-9D8B-8BEC22362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9ED9-8510-4FA0-BF6D-14B0116FC0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FD2C-F646-4FC2-8DB0-9D4C3623D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ACA3-B36E-46E4-925B-A24214D79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DFE3-C9D0-4892-8E1B-9D474F71AD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E7F-2B99-40C3-8D88-FD85F86B0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AE62-9324-40AE-9406-8133347F8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953B-5E81-4B57-AA25-0486251093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32F-AF37-4168-A580-A1BF1BF72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FFCA-B332-4B25-A91C-AA7F22526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2080" y="3038400"/>
            <a:ext cx="8619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619200" y="1125360"/>
            <a:ext cx="7905600" cy="209556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52232" descr=""/>
          <p:cNvPicPr/>
          <p:nvPr/>
        </p:nvPicPr>
        <p:blipFill>
          <a:blip r:embed="rId2"/>
          <a:stretch/>
        </p:blipFill>
        <p:spPr>
          <a:xfrm>
            <a:off x="177840" y="3497400"/>
            <a:ext cx="8858160" cy="20192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4140360" y="1628640"/>
            <a:ext cx="647640" cy="540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711920" y="1628640"/>
            <a:ext cx="648000" cy="540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4341960" y="2205000"/>
            <a:ext cx="1093680" cy="5396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524720" y="2205000"/>
            <a:ext cx="1093680" cy="539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1547640" y="3933720"/>
            <a:ext cx="1094040" cy="540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8"/>
          <a:stretch/>
        </p:blipFill>
        <p:spPr>
          <a:xfrm>
            <a:off x="5278320" y="3860640"/>
            <a:ext cx="733680" cy="540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9"/>
          <a:stretch/>
        </p:blipFill>
        <p:spPr>
          <a:xfrm>
            <a:off x="7927920" y="3875040"/>
            <a:ext cx="733320" cy="539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0"/>
          <a:stretch/>
        </p:blipFill>
        <p:spPr>
          <a:xfrm>
            <a:off x="1908000" y="4451400"/>
            <a:ext cx="1008360" cy="539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1"/>
          <a:stretch/>
        </p:blipFill>
        <p:spPr>
          <a:xfrm>
            <a:off x="5091120" y="4508640"/>
            <a:ext cx="733320" cy="5396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2"/>
          <a:stretch/>
        </p:blipFill>
        <p:spPr>
          <a:xfrm>
            <a:off x="8086680" y="4508640"/>
            <a:ext cx="10573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4000" y="1104840"/>
            <a:ext cx="8496000" cy="4648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6985080" cy="539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332000" y="5214960"/>
            <a:ext cx="7343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62040" y="1562040"/>
            <a:ext cx="7819920" cy="373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1042920" y="3457440"/>
            <a:ext cx="5400720" cy="540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7632720" cy="539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76327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76801" descr=""/>
          <p:cNvPicPr/>
          <p:nvPr/>
        </p:nvPicPr>
        <p:blipFill>
          <a:blip r:embed="rId1"/>
          <a:stretch/>
        </p:blipFill>
        <p:spPr>
          <a:xfrm>
            <a:off x="657360" y="895320"/>
            <a:ext cx="7829280" cy="5067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900000" y="3414600"/>
            <a:ext cx="5400720" cy="540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1042920" y="4019400"/>
            <a:ext cx="5400720" cy="540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900000" y="4695840"/>
            <a:ext cx="7704360" cy="539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55640" y="5373720"/>
            <a:ext cx="77040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85840" y="816120"/>
            <a:ext cx="8572320" cy="5781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5185080" cy="539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4797360"/>
            <a:ext cx="5185080" cy="539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684360" y="5445000"/>
            <a:ext cx="8208720" cy="540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539640" y="6093000"/>
            <a:ext cx="8209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71440" y="1195560"/>
            <a:ext cx="8601120" cy="44668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5400720" cy="540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5400360" cy="540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684360" y="4479840"/>
            <a:ext cx="8208720" cy="540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11280" y="5099040"/>
            <a:ext cx="82087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6326" descr=""/>
          <p:cNvPicPr/>
          <p:nvPr/>
        </p:nvPicPr>
        <p:blipFill>
          <a:blip r:embed="rId1"/>
          <a:stretch/>
        </p:blipFill>
        <p:spPr>
          <a:xfrm>
            <a:off x="318960" y="849240"/>
            <a:ext cx="8506080" cy="58197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684360" y="4883040"/>
            <a:ext cx="6624360" cy="540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84360" y="5473800"/>
            <a:ext cx="6624360" cy="539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539640" y="6121440"/>
            <a:ext cx="66247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333360" y="816120"/>
            <a:ext cx="84772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623880" y="1833480"/>
            <a:ext cx="7896240" cy="3191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84360" y="1859040"/>
            <a:ext cx="5543280" cy="539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5543280" cy="540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611280" y="3141720"/>
            <a:ext cx="6265800" cy="539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539640" y="3716280"/>
            <a:ext cx="8209080" cy="539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468360" y="4365720"/>
            <a:ext cx="82090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30:4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